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1.jpeg" ContentType="image/jpeg"/>
  <Override PartName="/ppt/media/image9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1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2BF-9D3F-4FC8-A94E-D684150C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9D7-E1E3-40BC-B2BA-637FAEB1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E24-E559-429C-A191-AEB00C82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6AC-082B-4EEF-AF6A-CC48D38C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6327-7C0A-4D3B-847A-6D550DF1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A3C7-2CB9-428F-8C3A-7855BCED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EC3F-8FA5-432F-8FB5-851E7066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614C-7E14-4835-8EC3-5A30E54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48E2-BC8F-4E3D-8700-C6E53D25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B45A-33AC-4223-8F7D-1572D66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929B-F672-44F3-A2EA-8B2F187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673-6EF1-42DD-B6EB-03CD3937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5A45-7FEF-4B23-84D9-5ED5978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4393-4733-429A-AFCB-7F11DB17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D0EE-58E3-4074-9548-646A38EF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CC02-4D28-4BAB-ACE8-8E365FEE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4019-360B-4EDB-B344-B0B1C4D0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318-8723-4FAB-9E47-F94F83D4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673-26EA-40B2-9E7D-929F6BB2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7DF-9EE0-45F1-96EA-5012932B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81A-6E32-4637-80E6-1905CD57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89A-335E-4086-ADA1-BAD12B7B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E18-D209-457F-A250-65CAAF8A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00B-AA13-4752-925F-8E8C29F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0982-57BF-4F4D-AC7C-F96B2DFEA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1ED7-165B-4D86-8CAA-55AEAEE2654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8f8f8"/>
                </a:solidFill>
                <a:latin typeface="Arial"/>
              </a:rPr>
              <a:t>Dr. Seus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569040" y="417996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would we do without him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1" name="Picture 7" descr="_x000e_CATANIMATE.gif                                                 0000B59D_x000c_Macintosh HD                   ABA78158:"/>
          <p:cNvPicPr/>
          <p:nvPr/>
        </p:nvPicPr>
        <p:blipFill>
          <a:blip r:embed="rId1"/>
          <a:stretch/>
        </p:blipFill>
        <p:spPr>
          <a:xfrm>
            <a:off x="507960" y="1206360"/>
            <a:ext cx="81280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_x0012_hitler cartoon.jpg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2743200"/>
            <a:ext cx="2222640" cy="3174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09480" y="4572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In 1941, Dr. Seuss took a break from writing books. He cared about politics and during World War II drew many cartoons for a magazine. He also joined the United States Army and helped to make movies for the soldier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0" name="Picture 11" descr="_x0010_DrSeusWarPic.jpg                                               00000010_x0006_Eaglet                         ABA78158:"/>
          <p:cNvPicPr/>
          <p:nvPr/>
        </p:nvPicPr>
        <p:blipFill>
          <a:blip r:embed="rId2"/>
          <a:stretch/>
        </p:blipFill>
        <p:spPr>
          <a:xfrm>
            <a:off x="5791320" y="2438280"/>
            <a:ext cx="28638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_x0015_DrSeusWarCoverLge.jpg                                          00000010_x0006_Eaglet                         ABA78158:"/>
          <p:cNvPicPr/>
          <p:nvPr/>
        </p:nvPicPr>
        <p:blipFill>
          <a:blip r:embed="rId3"/>
          <a:stretch/>
        </p:blipFill>
        <p:spPr>
          <a:xfrm>
            <a:off x="685800" y="2895480"/>
            <a:ext cx="2463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. Seuss kept writing. He wrot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cElligo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’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Poo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idwick the Big Hearted Moos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ow the Grinch Stole Christma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_x000e_mcelliotsm.JPG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1219320" y="990720"/>
            <a:ext cx="1828800" cy="250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_x0011_thidwicksmall.JPG                                              001509AF_x000c_Macintosh HD                   ABA78158:"/>
          <p:cNvPicPr/>
          <p:nvPr/>
        </p:nvPicPr>
        <p:blipFill>
          <a:blip r:embed="rId2"/>
          <a:stretch/>
        </p:blipFill>
        <p:spPr>
          <a:xfrm>
            <a:off x="3733920" y="99072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_x000f_grinchsmall.JPG                                                001509AF_x000c_Macintosh HD                   ABA78158:"/>
          <p:cNvPicPr/>
          <p:nvPr/>
        </p:nvPicPr>
        <p:blipFill>
          <a:blip r:embed="rId3"/>
          <a:stretch/>
        </p:blipFill>
        <p:spPr>
          <a:xfrm>
            <a:off x="6324480" y="990720"/>
            <a:ext cx="1828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1950, children were having a hard time reading because their books were boring! One of Dr. Seu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 friends called Mr. Geisel and told him he should write a funny book with only a few easy words in it.  It took Dr. Seuss 9 months and he used only 220 easy words. Everybody loved it!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t book wa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_x0011_04seuss_small.jpg                                              00000010_x0006_Eaglet                         ABA78158:"/>
          <p:cNvPicPr/>
          <p:nvPr/>
        </p:nvPicPr>
        <p:blipFill>
          <a:blip r:embed="rId1"/>
          <a:stretch/>
        </p:blipFill>
        <p:spPr>
          <a:xfrm>
            <a:off x="3886200" y="6094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_x0012_cat in the hat.JPG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2514600" y="576360"/>
            <a:ext cx="41148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ew years later a friend gave him another challenge. Could Dr. Seuss write a book with only 50 different words in it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Dr. Seuss wrote another  very popular book.  Dr. Seuss said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was the only book I wrote that still makes me laugh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d that one i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30" descr="_x0012_greeneggssmall.JPG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609480"/>
            <a:ext cx="3949560" cy="5488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32"/>
          <p:cNvSpPr/>
          <p:nvPr/>
        </p:nvSpPr>
        <p:spPr>
          <a:xfrm>
            <a:off x="4879440" y="990720"/>
            <a:ext cx="3684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In one survey,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kids said this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was one of their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favorite books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It has sold more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copies than any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ther title -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6,000,000 !!!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_x0014_if i ran the zoo.jpg                                           0000B59D_x000c_Macintosh HD                   ABA78158:"/>
          <p:cNvPicPr/>
          <p:nvPr/>
        </p:nvPicPr>
        <p:blipFill>
          <a:blip r:embed="rId1"/>
          <a:stretch/>
        </p:blipFill>
        <p:spPr>
          <a:xfrm>
            <a:off x="4800600" y="533520"/>
            <a:ext cx="3897360" cy="5333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457200" y="430200"/>
            <a:ext cx="4343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r. Seuss also wrot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is famous book. He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as inspired by th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zoo that was near hi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house when he was a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boy. He spent lots of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ime there with hi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ather who was a zookeeper and he loved to listen to the roars and songs of the animals at night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09480" y="609480"/>
            <a:ext cx="7925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r. Seuss wrote 48 different books. They have been published in 28 different languages.  More than 100 million copies have been sold all over the world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euss is different from many writers because most of his books are written in                         rhyme. To make rhymes,                       he would often make up                     words, like Sneetches,                        and Zizzer-zazzer-zuzz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6" name="Picture 6" descr="&#9;seuss.PCT   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6019920" y="3581280"/>
            <a:ext cx="2635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_x000f_suessstudio.PCT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990720"/>
            <a:ext cx="3119400" cy="4419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114800" y="576360"/>
            <a:ext cx="4867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 was still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writing books when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he died on Sept. 24,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1991 at the age of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87. His book, </a:t>
            </a: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"/>
              </a:rPr>
              <a:t>Daisy-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"/>
              </a:rPr>
              <a:t>Head Mayzie,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came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ut 4 years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later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9" name="Picture 5" descr="&#9;daisy.jpg                                                      001509AF_x000c_Macintosh HD                   ABA78158:"/>
          <p:cNvPicPr/>
          <p:nvPr/>
        </p:nvPicPr>
        <p:blipFill>
          <a:blip r:embed="rId2"/>
          <a:stretch/>
        </p:blipFill>
        <p:spPr>
          <a:xfrm>
            <a:off x="6705720" y="4038480"/>
            <a:ext cx="1720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&#10;seusssteps   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2743200" y="685800"/>
            <a:ext cx="4000680" cy="2692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066680" y="3733920"/>
            <a:ext cx="74678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’s books were fun to read but they taught kids about life too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9720" y="6854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One of the most famous authors of all times is Dr. Seuss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eu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 real name was Theodor Seuss Geisel. Seuss was his middle name. The doctor part he made up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03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205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&#13;hortonwho.pct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1447920" y="990720"/>
            <a:ext cx="6161040" cy="4559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 person’s a person, no matter how small!  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Horton Hears a Who!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. Seuss helps us care about other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_x000c_birthday.jpg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4952880" y="838080"/>
            <a:ext cx="3791160" cy="5105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3"/>
          <p:cNvSpPr/>
          <p:nvPr/>
        </p:nvSpPr>
        <p:spPr>
          <a:xfrm>
            <a:off x="533520" y="533520"/>
            <a:ext cx="4343400" cy="12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r. Seuss teaches us  to care for ourselves.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Come on! Open your mouth and sound off at the sky.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Shout loud at the top of your voice, I AM I !!!!! 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ME! I am I! And I may not know why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But I know that I like it. Three cheers!!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f8f8f8"/>
                </a:solidFill>
                <a:latin typeface="Arial"/>
              </a:rPr>
              <a:t>I AM I !!!</a:t>
            </a:r>
            <a:r>
              <a:rPr b="1" lang="en-US" sz="26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99400" y="369720"/>
            <a:ext cx="77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Seuss teaches us to be true to ourselv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33520" y="1523880"/>
            <a:ext cx="541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have brains in your head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have feet in your sho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 can steer yourself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y direction you choos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You’re on your own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you know what you know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8f8f8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are the gu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Who’ll decide where to go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9" name="Picture 4" descr="_x0011_oh the places.jpg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6553080" y="2895480"/>
            <a:ext cx="19065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457200" y="380880"/>
            <a:ext cx="823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. Seuss can teach us to be fair and treat people equally.                             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609480" y="1676520"/>
            <a:ext cx="449604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 know up on top you are seeing great sights,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But down at the bottom we, too, have rights.        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2" name="Picture 15" descr="&#10;yertle.pct   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5562720" y="1447920"/>
            <a:ext cx="2468520" cy="3797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7"/>
          <p:cNvSpPr/>
          <p:nvPr/>
        </p:nvSpPr>
        <p:spPr>
          <a:xfrm>
            <a:off x="691200" y="4724280"/>
            <a:ext cx="804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the turtles, of course                 </a:t>
            </a: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Yertle the Turtle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l the turtles are free      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 turtles, and maybe, all creatures should b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_x0008_sneeches     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609480" y="457200"/>
            <a:ext cx="3364200" cy="3505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4495680" y="380880"/>
            <a:ext cx="40388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Seuss wrot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Sneetche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o address how different groups of people didn’t like each other during World War II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38080" y="3962520"/>
            <a:ext cx="7239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I’m quite happy to say that the Sneetches got really smart on that day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The day they decided that Sneetches are Sneetches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And no kind of Sneetch is the best on the beaches.                 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&#13;one fish.jpeg     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4495680" y="533520"/>
            <a:ext cx="4148280" cy="5727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364320" y="473040"/>
            <a:ext cx="4132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 Seuss books ca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ach us abou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versity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e see them com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e see them go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ome are fast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d some are slow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Not one of them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Is like anothe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on’t ask why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o ask your mothe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_x0010_butterbattle.JPG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380880"/>
            <a:ext cx="3657600" cy="5056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&#9;lorax.JPG                                                      001509AF_x000c_Macintosh HD                   ABA78158:"/>
          <p:cNvPicPr/>
          <p:nvPr/>
        </p:nvPicPr>
        <p:blipFill>
          <a:blip r:embed="rId2"/>
          <a:stretch/>
        </p:blipFill>
        <p:spPr>
          <a:xfrm>
            <a:off x="4724280" y="304920"/>
            <a:ext cx="3657600" cy="5068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767880" y="5334120"/>
            <a:ext cx="67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Dr. Seuss wrote books with messag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bout getting along, and pollution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371600" y="380880"/>
            <a:ext cx="72388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. Seuss books teach us about how to help the world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lant a new Truffula. Treat it with car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Give it clean water. And feed it fresh air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Grow a forest. Protect it from ax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at hack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en the Lorax                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nd all his friends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an come back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UNLESS someone like you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ares a whole awful lot,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Nothing is going to get better. It’s not……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Picture 6" descr="_x000b_loraxsm.JPG 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6400800" y="3124080"/>
            <a:ext cx="16365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533520" y="755640"/>
            <a:ext cx="815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at you read,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ings you will know,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that you learn,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re places you’ll go.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Dr. Seuss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5" name="Picture 4" descr="_x0012_icanreadwithsm.jpg                                             000057F7_x0005_Adams                          B6AEF085:"/>
          <p:cNvPicPr/>
          <p:nvPr/>
        </p:nvPicPr>
        <p:blipFill>
          <a:blip r:embed="rId1"/>
          <a:stretch/>
        </p:blipFill>
        <p:spPr>
          <a:xfrm>
            <a:off x="1143000" y="3429000"/>
            <a:ext cx="2144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962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. Seuss was born on March 2, 1904. He died on Septmeber 24, 1991 when he was 87 years ol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&#13;Birthday Cake                                                  00000436_x000f_Classroom Clips                AFAA4EE4:"/>
          <p:cNvPicPr/>
          <p:nvPr/>
        </p:nvPicPr>
        <p:blipFill>
          <a:blip r:embed="rId1"/>
          <a:stretch/>
        </p:blipFill>
        <p:spPr>
          <a:xfrm>
            <a:off x="2514600" y="533520"/>
            <a:ext cx="38862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_x0010_seuess young.PCT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609480" y="533520"/>
            <a:ext cx="2286000" cy="2958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971800" y="914400"/>
            <a:ext cx="327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hen Ted went to college, he drew  cartoons for the school newspaper. After college he made ads for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Flit,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a company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at made bug spray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8" name="Picture 7" descr="_x0004_flit                                                           000057F7_x0005_Adams                          B6AEF085:"/>
          <p:cNvPicPr/>
          <p:nvPr/>
        </p:nvPicPr>
        <p:blipFill>
          <a:blip r:embed="rId2"/>
          <a:stretch/>
        </p:blipFill>
        <p:spPr>
          <a:xfrm>
            <a:off x="6172200" y="533520"/>
            <a:ext cx="2317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838080" y="1523880"/>
            <a:ext cx="7620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Dr. Seuss thought of his first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idea for a children’s book in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1936 while on a vacation cruise.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The rhythm of the ship’s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engine helped him think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of the rhyme of his first book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n you guess which one ?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book Dr. Seuss wrote wa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 to Think That I Saw it on Mulberry Stree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Forty three different book companies rejected this book!  Finally one of Mr. Geise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friends who was a book publisher decided to make it a b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_x000c_mulberry.JPG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4495680" y="685800"/>
            <a:ext cx="4114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ext books he wrote wer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500 Hats of Bartholomew Cubbin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King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’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 Stilt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artholomew and the Ooble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_x0010_500hatssmall.jpg                                               0000B59D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76212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_x000f_stiltssmall.jpg                                                0000B59D_x000c_Macintosh HD                   ABA78158:"/>
          <p:cNvPicPr/>
          <p:nvPr/>
        </p:nvPicPr>
        <p:blipFill>
          <a:blip r:embed="rId2"/>
          <a:stretch/>
        </p:blipFill>
        <p:spPr>
          <a:xfrm>
            <a:off x="3733920" y="914400"/>
            <a:ext cx="156996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&#10;ooblek.jpg                                                     001509AF_x000c_Macintosh HD                   ABA78158:"/>
          <p:cNvPicPr/>
          <p:nvPr/>
        </p:nvPicPr>
        <p:blipFill>
          <a:blip r:embed="rId3"/>
          <a:stretch/>
        </p:blipFill>
        <p:spPr>
          <a:xfrm>
            <a:off x="6324480" y="685800"/>
            <a:ext cx="16686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e day Dr. Seuss was sitting in his office with the windows open. A breeze lifted a piece of paper with an elephant sketched on it and laid it down on another drawing of a tree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I had to do was figure out what that elephant was doing in that tree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at story becam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&#10;horton.JPG                                                     001509AF_x000c_Macintosh HD                   ABA78158:"/>
          <p:cNvPicPr/>
          <p:nvPr/>
        </p:nvPicPr>
        <p:blipFill>
          <a:blip r:embed="rId1"/>
          <a:stretch/>
        </p:blipFill>
        <p:spPr>
          <a:xfrm>
            <a:off x="2514600" y="595440"/>
            <a:ext cx="41148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0:31:50Z</dcterms:created>
  <dc:creator>Karen DeFrank</dc:creator>
  <dc:description/>
  <dc:language>en-US</dc:language>
  <cp:lastModifiedBy>Barb Regan</cp:lastModifiedBy>
  <dcterms:modified xsi:type="dcterms:W3CDTF">2008-04-09T21:02:44Z</dcterms:modified>
  <cp:revision>111</cp:revision>
  <dc:subject/>
  <dc:title>Dr. Seuss</dc:title>
</cp:coreProperties>
</file>